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F43-2FCB-4D76-8EC5-4925F370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83F-F8E2-42D9-8FE1-23E524F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7EC-CFCD-4C62-B36F-B1A57DB6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804-ABBC-4ED0-A02F-06A246C4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91D-1C01-44EF-A1E9-23FCA33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2B4-30D3-496A-A1B9-286AE14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CEB-2043-4152-9EAF-FE41CA7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610-5814-450A-A1B8-8110594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3C3-767C-4835-9D47-F4F5B26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5B8-0E27-4710-A127-193CB59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8D1-FA6E-4B61-80C6-395DE7D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B6C-5EE0-4E67-9660-DA7B363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D6C8-24C3-4D36-82AC-6575945F7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0600" y="1981080"/>
            <a:ext cx="339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t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mp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8:30Z</dcterms:modified>
  <cp:revision>206</cp:revision>
  <dc:subject/>
  <dc:title>Slide 1</dc:title>
</cp:coreProperties>
</file>